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B96-2652-4763-BA55-3F0B601D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973-1586-436F-89AD-53FF317A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BAB-BADF-4C30-9DE3-D600DC45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EAE-A25A-477F-8FEB-38EF0E5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7A3-E903-47EC-AB85-5BB66D57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70A-2062-466C-B08C-6BAE709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09F-D046-478A-801B-D3D5E45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5DA-2376-4A02-9B04-DE8BCC3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B60-BEE8-481A-8D78-CABA41F1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940-959F-4800-A70D-FB8B09F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E23-367B-4405-8161-473C272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7BA-8E0A-4EFF-96D5-F78911D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49C-F002-484C-A433-86E34E106B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1361880"/>
            <a:ext cx="8280360" cy="4483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laski został podpisany przez państwa uczestników I wojny światowej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 dniu 28.06.1919 roku. Jego ratyfikacja nastąpiła w dniu 10.01.1920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alski miał duży wpływ na kształt granic Polski. Aspiracje Polski obejmowały obok ziem należących przed 1772 rokiem do Polski także tereny zamieszkane przez większość polsk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ada Najwyższa Konferencji powołała 18 stycznia 1919 r Komisję do Spraw Polskich. Chciała ona oddać Polsce Górny Śląsk, Wielkopolskę, Pomorze, Gdańsk oraz Dolny Śląsk oraz przeprowadzić plebiscyt na Warmii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Korzystne dla Polski rozwiązania zniweczył sprzeciw Wielkiej Bryta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Ostatecznie Polska na mocy traktatu otrzymała Pomorze wschodnie bez Gdań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Ponadto zarządzono plebiscyty na Górnym Śląsku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2:13:05Z</dcterms:created>
  <dc:creator>rjuraszczyk</dc:creator>
  <dc:description/>
  <dc:language>en-US</dc:language>
  <cp:lastModifiedBy>IB</cp:lastModifiedBy>
  <dcterms:modified xsi:type="dcterms:W3CDTF">2013-03-14T17:26:25Z</dcterms:modified>
  <cp:revision>7</cp:revision>
  <dc:subject/>
  <dc:title>TRAKTAT WERSALSKI</dc:title>
</cp:coreProperties>
</file>